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9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gif" ContentType="image/gif"/>
  <Override PartName="/ppt/media/image12.jpeg" ContentType="image/jpeg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7F2-051C-49CD-A50D-30FB7218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C4A-23DA-427C-85BA-489F00C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094-37F6-4BFD-AD39-3E3C0695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CEE-18DB-4593-B0A7-D7205AA4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896-EA5A-4CCF-9829-9A23E9A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F90-3884-494D-B810-E0E833A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988-9D95-46DA-8D68-C17D126E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072-C603-4DDB-B107-0A51861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1C8-48D4-4AE4-825F-5D5CDFB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B6D-5B4E-43E9-BC6F-05A92FF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068-EF46-490B-8A9A-49DE4E8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A2A-C2B8-45E3-81B3-126F233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7BF4-ADF1-49F0-8D05-BEF66A71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21096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7622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2762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1833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4353120" cy="238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16192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59100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3591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104920" cy="231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4005360"/>
            <a:ext cx="339084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286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06:36Z</dcterms:created>
  <dc:creator>Deterchimica</dc:creator>
  <dc:description/>
  <dc:language>en-US</dc:language>
  <cp:lastModifiedBy>Deterchimica</cp:lastModifiedBy>
  <dcterms:modified xsi:type="dcterms:W3CDTF">2006-03-31T21:12:25Z</dcterms:modified>
  <cp:revision>2</cp:revision>
  <dc:subject/>
  <dc:title>Diapositiva 1</dc:title>
</cp:coreProperties>
</file>