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3D1-8FDF-4DA7-BEE7-857F7BA8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4A3-8061-4A67-A61F-C718734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3D1-33AF-4CA7-BDB3-8AF174F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1F0-6C25-4CE7-90B7-9A0A0A24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3C4-9FCC-454C-94AC-16EF4E8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8EB-772F-40A5-806D-AA59D62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B03-00B0-4BD8-8E6F-08E287E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5D6-6668-46EB-BB2D-3E7D6956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1D3-1F12-4797-918E-7FE43D6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DDC-8AF6-4FCD-8EDE-2FDFC2A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2B0-5B59-4C89-91CF-64D19E2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CE9-B3F6-49B7-BFF6-B351E04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B2F7-2497-4449-B84D-A4B2E3DE9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213000"/>
            <a:ext cx="4392720" cy="302436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690480 h 3024360"/>
              <a:gd name="textAreaBottom" fmla="*/ 2333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14920" y="3933720"/>
            <a:ext cx="342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in eve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all you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be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Have a happy Father’s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6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addy D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98100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68360" y="638172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103824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149544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149544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3280" y="1495440"/>
            <a:ext cx="162900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588000" y="149544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184560"/>
            <a:ext cx="514332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66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addy D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981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997080" y="6381720"/>
            <a:ext cx="43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1557360"/>
            <a:ext cx="342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in eve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all you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be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Have a happy Father’s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7:42:37Z</dcterms:created>
  <dc:creator>Direzione Didattica Nocera Sup.</dc:creator>
  <dc:description/>
  <dc:language>en-US</dc:language>
  <cp:lastModifiedBy>Arianna</cp:lastModifiedBy>
  <dcterms:modified xsi:type="dcterms:W3CDTF">2006-03-20T15:10:24Z</dcterms:modified>
  <cp:revision>18</cp:revision>
  <dc:subject/>
  <dc:title>Diapositiva 1</dc:title>
</cp:coreProperties>
</file>