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991-AE56-46E6-B17C-7D6720EA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43B-D74F-470B-96FB-AC757B5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DE2-523A-4680-85B2-46C9CE1B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E90-BDB2-4053-A1EA-A43111F1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476-D28E-4032-9EEB-83FB3A83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303-DAED-4933-8C26-BF28FBA3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1E4-84EA-44EF-B179-59BD8716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443-9158-421A-953B-FFB75DC9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3F0-F588-4299-B703-B7B592EE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135-DD53-4F23-B1A7-798EA1F8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7CD-779B-432C-8AE1-C0C9625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090-8EB2-4846-8718-588D74E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8E9C-EEDF-4A16-86CC-78B624C8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PRIM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AUTU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 rispondere ad un saluto, presentarsi e chiedere il nome delle persone, comprendere ed eseguire istruzioni e procedure, identificare, abbinare colori, riconoscere e riprodurre suoni e ritmi della L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ormule di saluto, espressioni per dire e chiedere il proprio nome, semplici istruzioni correlate alla vita di classe quali l’esecuzione di un compito o lo svolgimento di un gioco (go, come, show, give, point, sit down, stand up, …), ambiti lessicali relativi a colori, a num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35040" y="3068640"/>
          <a:ext cx="7873920" cy="226692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 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alizzare con i compagni e gli insegnanti nei primi scambi di inform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gire in modo semplice per scambiare dati person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 e rispettare il mondo de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uti (Hello, goodby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azioni (What’s your name?Hello, I’m, Hello, my name is…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(1-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 How many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i (green, red, yellow, orange, brow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imali (squirrel, mous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ruzioni di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11280" y="573408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otori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municazione non- linguistica attraverso il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usica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all’immagin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rricchimento lessic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numerazion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noscenza e rispetto per il mondo della nat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PRIM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WI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d eseguire istruzioni e procedure, identificare, abbinare colori, riconoscere e riprodurre suoni e ritmi della L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emplici istruzioni correlate alla vita di classe quali l’esecuzione di un compito o lo svolgimento di un gioco (go, come, show, give, point, sit down, stand up, …), ambiti lessicali relativi a colori, a num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637000"/>
          <a:ext cx="7873920" cy="244764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cializzare con i compagni e l’insegnante negli scambi di informazion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 e rispettare il mondo de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famiglia (mum, dad, grandma, grandpa, sister, brothe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i (white, black, pink, purple, blu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(6-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many?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s this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o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season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colour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ruzioni di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ole pl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11280" y="573408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otori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municazione non- linguistica attraverso il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usica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all’immagin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rricchimento lessic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numerazion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noscenza e rispetto per il mondo della nat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PRIM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d eseguire istruzioni e procedure, identificare oggetti, eseguire semplici calcoli, riconoscere e riprodurre suoni e ritmi della L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emplici istruzioni correlate alla vita di classe quali l’esecuzione di un compito o lo svolgimento di un gioco (go, come, show, give, point, sit down, stand up, …), ambiti lessicali relativi a oggetti di uso com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35040" y="2708280"/>
          <a:ext cx="7873920" cy="284328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5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ambiare semplici informazioni relative all’ambiente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 e rispettare il mondo de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scuola (school, rubber, ruler, pencil, book, bag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many?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season is it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?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rale dei no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degli aggettiv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plici operazioni matemat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ruzioni di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’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zione autonoma di semplici fra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11280" y="573408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otori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municazione non- linguistica attraverso il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usica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all’immagin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rricchimento lessicale, rinforzo delle strutture grammaticali relative al singolare e plurale dei nomi, uso degli aggettiv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noscenza e rispetto per il mondo della natura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semplici numerazioni matemati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PRIM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SUM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mprendere ed eseguire istruzioni e procedure, identificare animali, riconoscere e riprodurre suoni e ritmi della L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semplici istruzioni correlate alla vita di classe quali l’esecuzione di un compito o lo svolgimento di un gioco (go, come, show, give, point, sit down, stand up, …), ambiti lessicali relativi a animali domest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2766960"/>
          <a:ext cx="7873920" cy="217476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ttere sull’aspetto di persone per fornire semplici descri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oscere e rispettare il mondo de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e festività ingle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i animali (bee, butterfly, frog, cat, dog, bird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 relativo alla natu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’s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urale dei nom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 viso (face, hair, nose, mouth, eyes, ear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ruzioni di cla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11280" y="5734080"/>
            <a:ext cx="784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Raccordi interdisciplinari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otoria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comunicazione non- linguistica attraverso il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musica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esecuzione di canzoni e filastroc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ucazione all’immagin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arricchimento lessic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matematica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numerazioni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convivenza civile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onoscenza e rispetto per il mondo della natura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scienz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il mondo animale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Ed. alla salute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: il mio  corpo </a:t>
            </a: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Italiano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 rinforzo delle strutture grammaticali relative al singolare e plurale dei no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Arianna</cp:lastModifiedBy>
  <dcterms:modified xsi:type="dcterms:W3CDTF">2006-10-05T14:05:39Z</dcterms:modified>
  <cp:revision>142</cp:revision>
  <dc:subject/>
  <dc:title>Diapositiva 1</dc:title>
</cp:coreProperties>
</file>