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2E30-46B1-4B43-9C0D-2D396A57F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178F-8C8E-470C-843E-EC74CEF2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D35D-76D7-4AD3-AF0F-20C20137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D082-1B1D-456C-8AD6-9CE07C497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9596-E7F4-4DF4-97FF-B25804F5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1C62-C899-4296-BD9C-003FB119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916E-665B-4E2C-B58E-AB129E1C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124C-3C1B-46B7-AE56-DAE8AFFC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A404-0D22-41D6-9B0B-0E882C34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AB64-ED5D-4DD3-99EA-7F80F467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F233-8ABD-4553-9C99-AF057155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540C-6F39-4F56-811F-25FB423A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555A-7DEE-4DC1-B991-8FFE72DA1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189000"/>
            <a:ext cx="8064720" cy="25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___________________________________PROGETTAZIONE ANNUALE LINGUA STRANIERA INGLE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LASSE QUARTA [ I BIMESTRE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UNITA’ DI APPRENDIMENTO 1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HAPPY FAC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Obiettivi specifici di apprendi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Abilità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i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nteragire in brevi scambi dialogici monitorati dall’insegnante e stimolati anche con supporti visivi; descrivere oralmente sé e i compagni utilizzando il lessico conosciuto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onoscenze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funzioni per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chiedere e dare informazioni personali; descrivere ed individuare person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lessico relativo a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: descrizione delle pers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riflessioni sulla lingua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: presente dei verbi “be” “have” e “ca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civiltà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: principali tradizioni, festività e caratteristiche culturali del paese strani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35040" y="3068640"/>
          <a:ext cx="7873920" cy="2771640"/>
        </p:xfrm>
        <a:graphic>
          <a:graphicData uri="http://schemas.openxmlformats.org/drawingml/2006/table">
            <a:tbl>
              <a:tblPr/>
              <a:tblGrid>
                <a:gridCol w="2496960"/>
                <a:gridCol w="2264040"/>
                <a:gridCol w="3112920"/>
              </a:tblGrid>
              <a:tr h="25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IETTIVI FORMATIVI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U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ODI,ATTIVITA’E SOLUZIONI ORGANIZZ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oscere, comprendere e utilizzare espressioni di uso quotidiano per stabilire rapporti interpersonali positiv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viduare e comprendere gli elementi principali di brevi descrizioni ascoltate o lette per ricavare informazioni e riutilizzarle in modo adeguato e significativ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rendere informazioni che riguardano la civiltà del paese di cui si studia la lingua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luti, presentazioni e forme di cortes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ico relativo alle feste di complean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 parti del viso e caratteristiche fisic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comunicative: I’ve got… Her/she has got… Have you got…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ico relative allo sport e alla mus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comunicative: I can/can’t he/she can/can’t… can you…? Yes, I can/No, I can’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llowe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anksgiving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bby e passatempi in Gran Bretag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egni e can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aloghi: drammatizzazione di semplici situazioni comunic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colto e completamento di attività var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mimi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zione autonoma di semplici fra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agrammi e tabel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a copp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lizzazione di cartoncini e decorazio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ngs and poem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684360" y="5950080"/>
            <a:ext cx="770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Verifica e valutazione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: Prove strutturate. Prove semistruttu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Raccordi interdisciplinari: Italiano: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arricchimento lessicale- la comunicazione verbale e non 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Ed.al suono: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 esecuzione di canzoni e filastrocche- 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Ed.immagine: 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Attività grafico-pittoriche 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Ed. alla salute: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 il mio corp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189000"/>
            <a:ext cx="8064720" cy="25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___________________________________PROGETTAZIONE ANNUALE LINGUA STRANIERA INGLE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LASSE QUARTA [ II BIMESTRE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UNITA’ DI APPRENDIMENTO 2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HAUNTED HO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Obiettivi specifici di apprendi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Abilità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Descrivere oralmente luoghi e oggetti utilizzando il lessico conosciu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Scrivere semplici messaggi seguendo un modello da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onoscenze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funzioni per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descrivere ed individuare luoghi e ogget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lessico relativo a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: descrizione dei luogh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riflessioni sulla lingua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: pronome interrogativo “where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civiltà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: principali tradizioni, festività e caratteristiche culturali del paese strani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35040" y="2997360"/>
          <a:ext cx="7873920" cy="2627280"/>
        </p:xfrm>
        <a:graphic>
          <a:graphicData uri="http://schemas.openxmlformats.org/drawingml/2006/table">
            <a:tbl>
              <a:tblPr/>
              <a:tblGrid>
                <a:gridCol w="2496960"/>
                <a:gridCol w="2264040"/>
                <a:gridCol w="3112920"/>
              </a:tblGrid>
              <a:tr h="24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IETTIVI FORMATIVI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U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ODI,ATTIVITA’E SOLUZIONI ORGANIZZ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per descrivere un ambiente e le sue caratteristic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iedere e dare informazioni che riguardano la localizzazione di oggetti all’interno della cas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viduare personaggi fantastici e stori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quisire informazioni legate alle festività ingle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ico relativo ad ambienti, arredi ed oggetti domesti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calizzazione di oggetti, animali e pers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comunicative: where’s the…? It’s in/on/under the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zione di ambienti domesti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comunicative: there’s a… in the… / there isn’t a… in the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ther Christmas and Nativ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ristmas Day and Christmas fo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a coppie e a squad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colto e completamento di attività var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colto di semplici stor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tività di role pl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tività di lettura e scrittura e rappresentazione graf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ruzione di uno storyboo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toncini e messaggi augural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ti e filastrocc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684360" y="5950080"/>
            <a:ext cx="770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Verifica e valutazione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: Prove strutturate. Prove semistruttu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Raccordi interdisciplinari: Italiano: 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arricchimento lessicale - la comunicazione verbale e non 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Ed.al suono: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 esecuzione di canzoni e filastrocche- 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Ed.immagine: 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Attività grafico-pittori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9640" y="189000"/>
            <a:ext cx="8064720" cy="25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___________________________________PROGETTAZIONE ANNUALE LINGUA STRANIERA INGLE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LASSE QUARTA [ III BIMESTRE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UNITA’ DI APPRENDIMENTO 3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CLOTHES AND FOOD SHOPP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Obiettivi specifici di apprendi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Abilità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descrivere oralmente sé e i compagni, persone, luoghi e oggetti utilizzando il lessico conosciuto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onoscenze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funzioni per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ringraziare, 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chiedere e dire il prezzo, descrivere ed individuare oggetti, dire ciò che piace e non pi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Lessico relativo a: 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sistema monetario inglese, cibi e bevande, abbiglia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riflessioni sulla lingua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: presente del verbo “can”, verbi di uso continuo al present continuous, aggettivi qualificativi, pronomi interrogativi “what” e “how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civiltà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: principali tradizioni, festività e caratteristiche culturali del paese strani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35040" y="3068640"/>
          <a:ext cx="7873920" cy="2700360"/>
        </p:xfrm>
        <a:graphic>
          <a:graphicData uri="http://schemas.openxmlformats.org/drawingml/2006/table">
            <a:tbl>
              <a:tblPr/>
              <a:tblGrid>
                <a:gridCol w="2496960"/>
                <a:gridCol w="2264040"/>
                <a:gridCol w="3112920"/>
              </a:tblGrid>
              <a:tr h="24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IETTIVI FORMATIVI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U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ODI,ATTIVITA’E SOLUZIONI ORGANIZZ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vere il proprio e l’altrui abbigliamen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mandare e rispondere sui gusti alimentar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rendere, riutilizzare e rispettare alcuni semplici elementi formali della lingua per una comunicazione progressivamente più accur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quisire informazioni sulle abitudini e le festività del paese stranie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ico relativo all’abbigliamen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zione del proprio e dell’altrui abbigliamen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comunicative: I’m wearing… / what are you wearing? / he-she is wearing… / is-she wearing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ico relativo a cibo e bevan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comunicative: I like… / I don’t like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comunicative: can I have some…, please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comunicative: How much is that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ncake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stema monetario ingle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egni e can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aloghi: drammatizzazione di semplici situazioni comunic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colto e completamento di attività var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mimi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zione autonoma di semplici fra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agrammi e tabel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a copp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lizzazione di cartoncini e decorazio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ngs and poem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684360" y="5950080"/>
            <a:ext cx="770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Verifica e valutazione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: Prove strutturate. Prove semistruttu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Raccordi interdisciplinari: Italiano: 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arricchimento lessicale - la comunicazione verbale e non 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Ed.al suono: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 esecuzione di canzoni e filastrocche- 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Ed.immagine: 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Attività grafico-pittoriche 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Scienze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: educazione aliment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9640" y="189000"/>
            <a:ext cx="806472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___________________________________PROGETTAZIONE ANNUALE LINGUA STRANIERA INGLE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LASSE QUARTA [ IV BIMESTRE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UNITA’ DI APPRENDIMENTO 4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PLACES IN T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Obiettivi specifici di apprendi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Abilità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descrivere oralmente luoghi utilizzando il lessico conosciu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comprendere ed eseguire istruzioni e proced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rilevare diversità culturali in relazione ad abitudini di vi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onoscenze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funzioni per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descrivere ed individuare luogh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lessico relativo a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: descrizione di luoghi (città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riflessioni sulla lingua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: interrogativi “where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civiltà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  <a:ea typeface="Arial"/>
              </a:rPr>
              <a:t>: principali tradizioni, festività e caratteristiche culturali del paese strani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35040" y="3249720"/>
          <a:ext cx="7873920" cy="2555640"/>
        </p:xfrm>
        <a:graphic>
          <a:graphicData uri="http://schemas.openxmlformats.org/drawingml/2006/table">
            <a:tbl>
              <a:tblPr/>
              <a:tblGrid>
                <a:gridCol w="2496960"/>
                <a:gridCol w="2264040"/>
                <a:gridCol w="3112920"/>
              </a:tblGrid>
              <a:tr h="23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IETTIVI FORMATIVI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U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ODI,ATTIVITA’E SOLUZIONI ORGANIZZ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per descrivere ed individuare luoghi ed elementi di un centro abita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per chiedere e dare indicazioni riguardanti la localizzazione di luoghi ed edifici cittadi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rendere informazioni che riguardano la civiltà del paese di cui si studia la lingua e scoprire differenze cultural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quisire informazioni sulle abitudini legate alle festività ingle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ico relativo a: luoghi cittadini ed elementi urba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zione di un centro abita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comunicative: there’s a… in my town / is there a … ? / yes, there is / no, there isn’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calizzazione di luoghi ed edifici cittadi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comunicative: where is the…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zioni stradal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comunicative: turn left, turn right, go straight 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 negozi londine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st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ppresentazione grafica di un centro urba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con le flashcar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lastrocca (skipping rhym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di comunicaz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loral ga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tività di ascolto e comprens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tività di lettura e scrittu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ngs and poem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toncini e messaggi augural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541440" y="5950080"/>
            <a:ext cx="799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Verifica e valutazione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: Prove strutturate. Prove semistruttu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Raccordi interdisciplinari: Italiano: 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arricchimento lessicale - la comunicazione verbale e non 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Ed.al suono: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 esecuzione di canzoni e filastrocche- </a:t>
            </a: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Ed.immagine: 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Attività grafico-pittoriche Geografia: la descrizione dei centri abita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6:06:50Z</dcterms:created>
  <dc:creator>Arianna</dc:creator>
  <dc:description/>
  <dc:language>en-US</dc:language>
  <cp:lastModifiedBy>DIREZIONE</cp:lastModifiedBy>
  <dcterms:modified xsi:type="dcterms:W3CDTF">2006-10-18T14:09:51Z</dcterms:modified>
  <cp:revision>99</cp:revision>
  <dc:subject/>
  <dc:title>Diapositiva 1</dc:title>
</cp:coreProperties>
</file>