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B251-E48E-45E2-BCC4-B4D7E1551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1624-BD62-49BD-A298-7F9C7691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3E39-EC84-4D46-8841-C1FB2A93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7CC0-9922-42FA-BA74-7F2D7AA5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DF64-1663-418D-892E-005695C8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5C01-AB67-4539-8B4A-CBF58016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ABF3-D1AB-4043-9987-88DC38B9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BB33-72E3-449A-BE10-B28C7421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5B30-2207-4356-979C-7A6FD73D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C20B-4544-4024-9563-C687F902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F1F8-5265-40FE-BC47-37CE3EF9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F7C6-F639-4F76-810E-64D6A076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5CB3-87C7-4502-93F1-ADA19DDF3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333360"/>
            <a:ext cx="8064360" cy="24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___________________________________PROGETTAZIONE ANNUALE LINGUA STRANIERA INGLE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LASSE QUINTA [ I BIMESTRE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UNITA’ DI APPRENDIMENTO 1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SPORT AND DAILY ROUT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Obiettivi specifici di apprend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Abilità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Interagire in brevi scambi dialogici monitorati dall’insegnante e stimolati  anche con supporti visivi. Rilevare diversità culturali in relazione ad abitudini di vi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noscenze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funzioni per: chiedere e dire l’ora, dire e chiedere ciò che piace e non piace chiedere e dare informazioni person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Lessico relativo a: orario, cibi e bevan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Riflessioni sulla lingua: presente dei verbi “be”, “have” e “can”, verbi di uso comune al simple present, aggettivi dimostrativi; interrogativi: who, what, where, h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iviltà: principali tradizioni, festività e caratteristiche culturali del paese strani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12720" y="2844720"/>
          <a:ext cx="7846920" cy="3176640"/>
        </p:xfrm>
        <a:graphic>
          <a:graphicData uri="http://schemas.openxmlformats.org/drawingml/2006/table">
            <a:tbl>
              <a:tblPr/>
              <a:tblGrid>
                <a:gridCol w="1928880"/>
                <a:gridCol w="3032280"/>
                <a:gridCol w="2885760"/>
              </a:tblGrid>
              <a:tr h="31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IETTIVI FORMATIVI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ODI, ATTIVITA’E SOLUZIONI ORGANIZZ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ostare dialoghi guidati che implicano informazioni sulle persone e sull’ambiente circostan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rendere il mutare del tempo cronologico per gestire le proprie attività quotidia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agire per sviluppare atteggiamenti  di positivo confronto interpersonale e rispetto delle rego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quisire la capacità di confrontarsi con civiltà diverse dalla propr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comunicative</a:t>
                      </a: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 ‘s your name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w do you spell that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 ‘s your telephone number 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’s your address 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re’s (Michel) from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’m from…,He’s/She’s from…..,We’re fro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’s this? What are these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 likes/She likes (swimminng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/She doesn’t like (dancing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s/h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’s the time? IT’s……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 get up at….,I go to school at…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/She gets up at…,he/she goes to school  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 time do you….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 breakfast, I have toast and jam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vilt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llowe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 sport in Gran Bretag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loghi: drammatizzazione di semplici situazioni comunic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colto e completamento di attività var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mimi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a copp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izzazione di cartoncini e decorazio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ngs and rhym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612720" y="6095880"/>
            <a:ext cx="777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Verdana"/>
              </a:rPr>
              <a:t>Verifica e valutazione</a:t>
            </a: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: Prove strutturate. Prove semistruttu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Verdana"/>
              </a:rPr>
              <a:t>Raccordi interdisciplinari: Italiano: </a:t>
            </a: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Consolidamento dell’alfabeto in L1; arricchimento lessicale - la comunicazione verbale e non </a:t>
            </a:r>
            <a:r>
              <a:rPr b="1" lang="it-IT" sz="900" spc="-1" strike="noStrike">
                <a:solidFill>
                  <a:srgbClr val="000000"/>
                </a:solidFill>
                <a:latin typeface="Verdana"/>
              </a:rPr>
              <a:t>Ed.al suono:</a:t>
            </a: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 esecuzione di canzoni e filastrocche- </a:t>
            </a:r>
            <a:r>
              <a:rPr b="1" lang="it-IT" sz="900" spc="-1" strike="noStrike">
                <a:solidFill>
                  <a:srgbClr val="000000"/>
                </a:solidFill>
                <a:latin typeface="Verdana"/>
              </a:rPr>
              <a:t>Ed.immagine: </a:t>
            </a: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Attività grafico-pittoriche </a:t>
            </a:r>
            <a:r>
              <a:rPr b="1" lang="it-IT" sz="900" spc="-1" strike="noStrike">
                <a:solidFill>
                  <a:srgbClr val="000000"/>
                </a:solidFill>
                <a:latin typeface="Verdana"/>
              </a:rPr>
              <a:t>Storia</a:t>
            </a: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: il tempo cronologic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189000"/>
            <a:ext cx="806472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___________________________________PROGETTAZIONE ANNUALE LINGUA STRANIERA INGLE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LASSE QUINTA [ II BIMESTRE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UNITA’ DI APPRENDIMENTO 2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SCHOOL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Obiettivi specifici di apprend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Abilità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Intergaire in brevi scambi dialogici monitorati dall’insegnante e stimolati anche con supporti visivi, descrivere oralmente luoghi utilizzando il lessico conosciuto, scrivere semplici messaggi seguendo un modello dato, rilevare diversità culturali in relazione ad abitudini di vi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noscenze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Funzioni per: descrivere ed individuare luoghi, chiedere e dare informazioni person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Lessico relativo a: numeri fino a 100, descrizione di luogh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Riflessioni sulla lingua: presente dei verbi “be”, “have” e “can”, verbi di uso comune al simple present, interrogativi: h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iviltà: principali tradizioni, festività e caratteristiche culturali del paese strani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35040" y="2962440"/>
          <a:ext cx="7873920" cy="2554200"/>
        </p:xfrm>
        <a:graphic>
          <a:graphicData uri="http://schemas.openxmlformats.org/drawingml/2006/table">
            <a:tbl>
              <a:tblPr/>
              <a:tblGrid>
                <a:gridCol w="2496960"/>
                <a:gridCol w="2264040"/>
                <a:gridCol w="3112920"/>
              </a:tblGrid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IETTIVI FORMATIVI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ODI,ATTIVITA’E SOLUZIONI ORGANIZZ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ostare dialoghi guidati che implicano informazioni sui luoghi della propria città e sulle caratteristiche della propria scuol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quisire informazioni legate alla cultura britann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linguistiche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w do you go to school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 go/he-she goes to school by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 have English on… at…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zzi di comunicazione e traspor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uoghi urba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terie scolastic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meri 60-1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flessione linguist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vilt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ristm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 scuola in Gran Bretag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a coppie e a squad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colto e completamento di attività var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colto di semplici stor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tività di rappresentazione graf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toncini e messaggi augura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ti e filastrocc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611280" y="5734080"/>
            <a:ext cx="7777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Verdana"/>
              </a:rPr>
              <a:t>Verifica e valutazione</a:t>
            </a: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: Prove strutturate. Prove semistruttu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Verdana"/>
              </a:rPr>
              <a:t>Raccordi interdisciplinari: Italiano: </a:t>
            </a: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arricchimento lessicale – </a:t>
            </a:r>
            <a:r>
              <a:rPr b="1" lang="it-IT" sz="900" spc="-1" strike="noStrike">
                <a:solidFill>
                  <a:srgbClr val="000000"/>
                </a:solidFill>
                <a:latin typeface="Verdana"/>
              </a:rPr>
              <a:t>Convivenza civile: </a:t>
            </a: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educazione stradale – </a:t>
            </a:r>
            <a:r>
              <a:rPr b="1" lang="it-IT" sz="900" spc="-1" strike="noStrike">
                <a:solidFill>
                  <a:srgbClr val="000000"/>
                </a:solidFill>
                <a:latin typeface="Verdana"/>
              </a:rPr>
              <a:t>Ed. ambientale</a:t>
            </a: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: l’inquinamento – </a:t>
            </a:r>
            <a:r>
              <a:rPr b="1" lang="it-IT" sz="900" spc="-1" strike="noStrike">
                <a:solidFill>
                  <a:srgbClr val="000000"/>
                </a:solidFill>
                <a:latin typeface="Verdana"/>
              </a:rPr>
              <a:t>Ed.al suono:</a:t>
            </a: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 esecuzione di canzoni e filastrocche- </a:t>
            </a:r>
            <a:r>
              <a:rPr b="1" lang="it-IT" sz="900" spc="-1" strike="noStrike">
                <a:solidFill>
                  <a:srgbClr val="000000"/>
                </a:solidFill>
                <a:latin typeface="Verdana"/>
              </a:rPr>
              <a:t>Ed.immagine:</a:t>
            </a: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Attività grafico-pittoric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9640" y="189000"/>
            <a:ext cx="806472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___________________________________PROGETTAZIONE ANNUALE LINGUA STRANIERA INGLE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LASSE QUINTA [ III BIMESTRE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UNITA’ DI APPRENDIMENTO 3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CELEBRATIONS AND THE WEA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Obiettivi specifici di apprend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Abilità: Intergaire in brevi scambi dialogici monitorati dall’insegnante e stimolati anche con supporti visivi, descrivere oralmente luoghi utilizzando il lessico conosciuto, comprendere semplici e chiari messaggi con lessico e strutture noti su argomenti familiari, produrre suoni e ritmi della L2 attribuendovi significati e funzioni, scrivere semplici messaggi seguendo un modello dato, rilevare diversità culturali in relazione a condizioni climatich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noscenz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Funzioni per: chiedere e parlare del tempo atmosferico, per chiedere e dare e permess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Lessico relativo a: tempo atmosferico, giorni, mesi, anni, stagion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Riflessioni sulla lingua: presente dei verbi “be” e “can”, verbi al present continuous, interrogativi: wh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iviltà: principali tradizioni, festività e caratteristiche culturali del paese strani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11280" y="2852640"/>
          <a:ext cx="7777080" cy="3152880"/>
        </p:xfrm>
        <a:graphic>
          <a:graphicData uri="http://schemas.openxmlformats.org/drawingml/2006/table">
            <a:tbl>
              <a:tblPr/>
              <a:tblGrid>
                <a:gridCol w="1873080"/>
                <a:gridCol w="3456000"/>
                <a:gridCol w="2448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IETTIVI FORMATIVI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ODI,ATTIVITA’E SOLUZIONI ORGANIZZ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rendere il mutare del tempo atmosferico per interpretare il mondo circostan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quisire informazioni legate alla cultura britann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linguistiche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October/On the first of Janua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I have a party? Yes, of course you can – no, sorry, you can’t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’s the weather like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’s sunny, …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/She’s read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si dell’an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gio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meri ordina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po atmosfer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stività e ricorrenz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flessione linguist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sent continuo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eposizioni (on, i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vilt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sporto a Lond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ther’s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gni e can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loghi: drammatizzazione di semplici situazioni comunic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colto e completamento di attività var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mimi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a copp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izzazione di cartoncin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ngs and rhym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539640" y="6093000"/>
            <a:ext cx="7704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Verdana"/>
              </a:rPr>
              <a:t>Verifica e valutazione</a:t>
            </a: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: Prove strutturate. Prove semistruttu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Verdana"/>
              </a:rPr>
              <a:t>Raccordi interdisciplinari: Italiano: </a:t>
            </a: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arricchimento lessicale; rinforzo delle strutture grammaticali relative alle preposizioni - </a:t>
            </a:r>
            <a:r>
              <a:rPr b="1" lang="it-IT" sz="900" spc="-1" strike="noStrike">
                <a:solidFill>
                  <a:srgbClr val="000000"/>
                </a:solidFill>
                <a:latin typeface="Verdana"/>
              </a:rPr>
              <a:t>Ed. al suono:</a:t>
            </a: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esecuzioni di canzoni e filastrocche – </a:t>
            </a:r>
            <a:r>
              <a:rPr b="1" lang="it-IT" sz="900" spc="-1" strike="noStrike">
                <a:solidFill>
                  <a:srgbClr val="000000"/>
                </a:solidFill>
                <a:latin typeface="Verdana"/>
              </a:rPr>
              <a:t>Ed. all’immagine:</a:t>
            </a: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attività grafico-pittoric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189000"/>
            <a:ext cx="80647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Verdana"/>
              </a:rPr>
              <a:t>___________________________________PROGETTAZIONE ANNUALE LINGUA STRANIERA INGLE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Verdana"/>
              </a:rPr>
              <a:t>CLASSE QUINTA [ IV BIMESTRE 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UNITA’ DI APPRENDIMENTO 4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ROBIN H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Obiettivi specifici di apprend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Abilità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Descrivere oralmente persone utilizzando il lessico conosciuto, rilevare diversità culturali in relazione ad abitudini di vi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onoscenze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Funzioni per: descrivere ed individuare pers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Lessico relativo a: descrizione delle pers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Riflessioni sulla lingua: presente dei verbi “be”, “have”, “can”, aggettivi qualificati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"/>
              </a:rPr>
              <a:t>Civiltà: principali tradizioni, festività e caartteristiche culturali del paese strani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35040" y="2766960"/>
          <a:ext cx="7873920" cy="2192400"/>
        </p:xfrm>
        <a:graphic>
          <a:graphicData uri="http://schemas.openxmlformats.org/drawingml/2006/table">
            <a:tbl>
              <a:tblPr/>
              <a:tblGrid>
                <a:gridCol w="2496960"/>
                <a:gridCol w="2264040"/>
                <a:gridCol w="3112920"/>
              </a:tblGrid>
              <a:tr h="2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IETTIVI FORMATIVI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ENU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ODI,ATTIVITA’E SOLUZIONI ORGANIZZATIV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tilizzare il lessico noto in situazioni comunicative rea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quisire informazioni legate  alla civiltà britann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utture linguistiche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/she’s ki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/She’s got blond hai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ve/Don’t give me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you sing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gettivi qualificativ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vilt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y Da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itish Holiday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st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con le flashcard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hym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iochi di comunicaz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loral ga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tività di ascolto e comprensio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ng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toncini e messaggi augural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611280" y="55324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Verdana"/>
              </a:rPr>
              <a:t>Verifica e valutazione</a:t>
            </a: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: Prove strutturate. Prove semistruttu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Verdana"/>
              </a:rPr>
              <a:t>Raccordi interdisciplinari: Italiano: </a:t>
            </a: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Arricchimento lessicale – rinforzo delle strutture grammaticali relative agli aggettivi 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Ed. al suono: </a:t>
            </a: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esecuzioni di canzoni e filastrocche – 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Ed. all’immagine: </a:t>
            </a: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attività grafico-pittoric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6:06:50Z</dcterms:created>
  <dc:creator>Arianna</dc:creator>
  <dc:description/>
  <dc:language>en-US</dc:language>
  <cp:lastModifiedBy>Arianna</cp:lastModifiedBy>
  <dcterms:modified xsi:type="dcterms:W3CDTF">2006-10-31T19:06:45Z</dcterms:modified>
  <cp:revision>218</cp:revision>
  <dc:subject/>
  <dc:title>Diapositiva 1</dc:title>
</cp:coreProperties>
</file>