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D06-3302-483C-AD8E-2A2759A4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D19-9330-48CC-B4C2-82AEAF4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5EC-3E8F-4E76-A6B8-89497D8B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E6C-DA3B-4DD7-BD37-8974B85B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A01-DBD5-436E-B236-6DE29E5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2B1-AED4-46A4-A87C-4A7BE9C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C52-1FBF-444D-BB10-99CE7FD7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239-EF61-4F9B-B883-7C5E387A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85A-CEAE-46CC-8DED-2A342F99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86F-70F1-439D-8239-DB2636F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A1D-866A-4CA8-BD16-9E27DA0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D36-FCF5-4C2A-AB1B-0E73794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97C-8B0A-4B67-9B02-9FC056F9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scoprire differenze culturali all’interno dei gruppi (scolastic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ttere dell’alfabeto, suoni della L2, espressioni utili per semplici interazioni (comprendere domande e istruzioni, seguire indicazioni), ambiti lessicali relativi all’ambiente scolas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2852640"/>
          <a:ext cx="7873920" cy="26240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re lettere e suoni della L2 in situazioni di interazione personale e in contesti lud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’alfabe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favourite colour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favourite colour’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can se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e’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 my/your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(chair, table, teacher, clock, balckboard, window, desk, door, cupboar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sulla ling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icoli indeterminativi (a/a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6021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nsolidamento dell’alfabeto in L1; arricchimento lessicale- la comunicazione verbale e non, uso degli aggettivi, articoli indeterminativi 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l’importanza di comportarsi bene in clas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percepire il ritmo e l’intonazione come elementi comunicativi per esprimere piacere e dispiacere,scoprire differenze culturali all’interno dei gruppi (familiari, scolastici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 e istru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si in relazione con gli altri per scambiare informazioni perso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e’s so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you like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like…/I don’t like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o (fish, cheese, yoghurt, bread, rice, pasta, chocolate, ice cream, soup,…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ti (breakfast, lunch, din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esecuzione di canzoni e filastrocche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imentar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le abitudini aliment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CLOT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seguire semplici istruzioni, numerare, classificare ogget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istruzioni, seguire indicazioni), ambiti lessicali relativi ad oggett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2708280"/>
          <a:ext cx="7873920" cy="2843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utilizzando linguaggi verbali e non verbal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 on/Take off your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igliamento (t-shirt, shirt, skirt, shoe, hat, jumper, sock, belt, trousers, …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golare e plurale dei no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595008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; rinforzo delle strutture grammaticali relative al singolare e plurale dei nom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AN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747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in luoghi di vita quotidiana espressi con articolazione chi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o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/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(dog, cat, snake, mouse, tiger, bird, monkey, rabbit, hams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il mondo ani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11:06Z</dcterms:modified>
  <cp:revision>164</cp:revision>
  <dc:subject/>
  <dc:title>Diapositiva 1</dc:title>
</cp:coreProperties>
</file>