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D83-33F0-4EBA-9971-041A1653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F3F-65AF-4FDE-875A-3465DF2F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60E-F5DE-4020-A2D7-2DC61449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ED7-07D5-4C97-8C75-3763EAEE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00C-A088-4D87-963D-E106654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E7D-4477-46FE-A52D-C8D80943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A5A-FA46-4BB6-8D36-EB6551B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204-969E-4955-A418-052463D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092-A5A1-4DBD-8577-72DA432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5CA-38C7-45FA-AC92-4ADABCD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987-A6E9-4E81-BAF3-B66E5C0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9DC-273D-4CBF-A153-CA150CC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4A3C-E666-4F1B-B807-F69B9335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BIRTHDAY AND MY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oarole, percepire il ritmo e l’intonazione come elementi comunicativi per esprimere emozioni, presentare se stessi e gli altri, chiedere e dire l’età, numerare ogget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ttere dell’alfabeto, suoni della L2, espressioni utili per semplici interazioni (comprendere domande e istruzioni), ambiti lessicali relativi all’ambiente familiare, all’età, ai numeri (1-5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2852640"/>
          <a:ext cx="7873920" cy="33843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lle persone e sull’ambiente circost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e in diverse situazioni la propria emotivi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ti e present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’alfabeto e lo sp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name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 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old are you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 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 is my m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/he’s/she’s happy/sad/quiet/nois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(1-5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rthday (present, candle, balloon, birthday cake, part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famiglia (gran, dad, grandad, brother, mum, baby, sis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sulla ling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rale dei no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 Britai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84360" y="6308640"/>
            <a:ext cx="76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nsolidamento dell’alfabeto in L1; arricchimento lessicale- la comunicazione verbale e non 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WILD AN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doman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637000"/>
          <a:ext cx="7873920" cy="2447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iluppare forme di curiosità, interesse, rispetto verso ogni forma della realtà ambient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’s a 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it a …? Yes/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imali selvatici (monkey,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nake</a:t>
                      </a: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elephant, crocodile, lion, giraffe, tiger, parrot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icoli indeterminativi (a/a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Scienze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gli animali selvaggi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esecuzione di canzoni e filastrocche-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SCHOOL AND MY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:Individuare e riprodurre suoni ;abbinare suoni/parole;seguire semplici istruzioni,eseguire ordini;individuare luoghi e oggettti familiari e descriverne le caratteristiche genera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:Espressioni utili per semplici interazioni ( comprendere domande e istruzioni);ambiti lessicalui relativi all’ambiente scolastico, a dimensione e forma  degli oggetti  di uso comu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492280"/>
          <a:ext cx="7873920" cy="33274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re contatti sociali utilizzando linguaggi verbali e non verbal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lle persone e sull’ambiente circosta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ndere consapevolezza del proprio corpo e dei bisogni prima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t down/Open/Pick up/Clo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ve got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ve you got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/It has go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’s 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’s/He’s/She’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getti scolastici (rubber, bag, pencil case, felt-tip pen, ruler, pencil sharpen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oghi scolastici (classroom, toilet, library, playgroun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 corpo umano (body, head, hand, arm, foot, leg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ettivi (short, tall, small, big, horrible, lovel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golare e plurale dei nomi (regolare e irregolar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lish schoo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595008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; rinforzo delle strutture grammaticali relative al singolare e plurale dei nomi, gli aggettivi-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a salut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il mio  corpo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Percepire il ritmo e l’intonazione come elementi comunicativi per esprimere piacere o dispiacere; scoprire differenze culturali all’interno dei gruppi famili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Espressioni utili per semplici interazioni (chiedere qualcosa,comprendere doman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9240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ttere sul rapporto tra abitudini alimentari e sal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 alla civiltà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 favourite food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like/I don’t like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you like……..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o(chocolate,sandwiches,cheese,bananas,orange juice eggs,pasta,tea, rice, chicken, pizza, toast ,chips, salad, ice cream, lunchbo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ti inglesi(breakfast,lunch dinn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53248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rricchimento lessical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imentar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le abitudini alimentari-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a salut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il mio  corpo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05T14:01:15Z</dcterms:modified>
  <cp:revision>188</cp:revision>
  <dc:subject/>
  <dc:title>Diapositiva 1</dc:title>
</cp:coreProperties>
</file>