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48488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1ACC-A80A-47B2-9664-720EB2138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06280" y="455400"/>
            <a:ext cx="7242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06280" y="1801800"/>
            <a:ext cx="725148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06280" y="4170240"/>
            <a:ext cx="725148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0DE9-605C-4CA1-901C-47820C6FC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06280" y="455400"/>
            <a:ext cx="7242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06280" y="1801800"/>
            <a:ext cx="35384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2200" y="1801800"/>
            <a:ext cx="35384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06280" y="4170240"/>
            <a:ext cx="35384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2200" y="4170240"/>
            <a:ext cx="35384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57F9-6ED3-49C5-BAC7-1E2B782BC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06280" y="455400"/>
            <a:ext cx="7242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06280" y="1801800"/>
            <a:ext cx="2334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57880" y="1801800"/>
            <a:ext cx="2334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9840" y="1801800"/>
            <a:ext cx="2334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06280" y="4170240"/>
            <a:ext cx="2334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57880" y="4170240"/>
            <a:ext cx="2334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9840" y="4170240"/>
            <a:ext cx="2334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2E44-10AD-4E74-B4FA-EB02733B9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4378D-F6F4-4C30-9ED1-6E43942A4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06280" y="455400"/>
            <a:ext cx="7242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06280" y="1801800"/>
            <a:ext cx="725148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94AED-494D-4A01-ACA4-2E5F13230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06280" y="455400"/>
            <a:ext cx="7242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06280" y="1801800"/>
            <a:ext cx="7251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850FA-258A-4600-B385-6EBC1B6B4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06280" y="455400"/>
            <a:ext cx="7242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06280" y="1801800"/>
            <a:ext cx="35384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22200" y="1801800"/>
            <a:ext cx="35384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A5EE2-2D8A-441E-9A53-1126AA38D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06280" y="455400"/>
            <a:ext cx="7242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FD24D-D69B-400D-AE58-A14C18F86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06280" y="455400"/>
            <a:ext cx="7242120" cy="624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A7AFE-A4A2-46AE-B555-8D3391251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06280" y="455400"/>
            <a:ext cx="7242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06280" y="1801800"/>
            <a:ext cx="35384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22200" y="1801800"/>
            <a:ext cx="35384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06280" y="4170240"/>
            <a:ext cx="35384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AF62B-0250-4096-9F77-1C327182F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06280" y="455400"/>
            <a:ext cx="7242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06280" y="1801800"/>
            <a:ext cx="725148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BAF6-DFEF-46C9-AA8E-904CDF225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06280" y="455400"/>
            <a:ext cx="7242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06280" y="1801800"/>
            <a:ext cx="35384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22200" y="1801800"/>
            <a:ext cx="35384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22200" y="4170240"/>
            <a:ext cx="35384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3B2E1-DBC7-48DD-80A1-976649735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06280" y="455400"/>
            <a:ext cx="7242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06280" y="1801800"/>
            <a:ext cx="35384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22200" y="1801800"/>
            <a:ext cx="35384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06280" y="4170240"/>
            <a:ext cx="725148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E7629-D101-4EE0-8001-CFB2A3E7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06280" y="455400"/>
            <a:ext cx="7242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06280" y="1801800"/>
            <a:ext cx="725148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06280" y="4170240"/>
            <a:ext cx="725148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3F3F0-34F9-4333-A919-95D3CA597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06280" y="455400"/>
            <a:ext cx="7242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06280" y="1801800"/>
            <a:ext cx="35384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2200" y="1801800"/>
            <a:ext cx="35384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06280" y="4170240"/>
            <a:ext cx="35384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22200" y="4170240"/>
            <a:ext cx="35384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8763B-2F85-42D4-9895-CA3D35361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06280" y="455400"/>
            <a:ext cx="7242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06280" y="1801800"/>
            <a:ext cx="2334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57880" y="1801800"/>
            <a:ext cx="2334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9840" y="1801800"/>
            <a:ext cx="2334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06280" y="4170240"/>
            <a:ext cx="2334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57880" y="4170240"/>
            <a:ext cx="2334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9840" y="4170240"/>
            <a:ext cx="2334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B4E28-110D-4F53-A70A-029D52930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06280" y="455400"/>
            <a:ext cx="7242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06280" y="1801800"/>
            <a:ext cx="7251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A8D4-E3DE-4E89-9A41-2E63BA72D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06280" y="455400"/>
            <a:ext cx="7242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06280" y="1801800"/>
            <a:ext cx="35384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2200" y="1801800"/>
            <a:ext cx="35384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D7BE-59A5-4DAE-8CC3-9A8CD19D9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06280" y="455400"/>
            <a:ext cx="7242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1BE3-97F8-4E91-BBD9-7DA39364A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06280" y="455400"/>
            <a:ext cx="7242120" cy="624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0A96-DAEA-441E-A648-E7266CCAF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06280" y="455400"/>
            <a:ext cx="7242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06280" y="1801800"/>
            <a:ext cx="35384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2200" y="1801800"/>
            <a:ext cx="35384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06280" y="4170240"/>
            <a:ext cx="35384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F701-0862-4D58-A2AE-4883508E9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06280" y="455400"/>
            <a:ext cx="7242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06280" y="1801800"/>
            <a:ext cx="35384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2200" y="1801800"/>
            <a:ext cx="35384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2200" y="4170240"/>
            <a:ext cx="35384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D325-9048-4E56-9D67-0D6A12D5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06280" y="455400"/>
            <a:ext cx="7242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06280" y="1801800"/>
            <a:ext cx="35384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2200" y="1801800"/>
            <a:ext cx="35384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06280" y="4170240"/>
            <a:ext cx="725148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A92E-DC75-484F-B22D-9A59E2953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06280" y="455400"/>
            <a:ext cx="7242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06280" y="1801800"/>
            <a:ext cx="7251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2280" y="6564240"/>
            <a:ext cx="284976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564240"/>
            <a:ext cx="332604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71800" y="6564240"/>
            <a:ext cx="178596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5220B-8C97-40FF-ACC9-62707B03ECE7}" type="slidenum">
              <a:rPr b="0" lang="en-US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73240" y="2130120"/>
            <a:ext cx="5484960" cy="15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152280" y="6564240"/>
            <a:ext cx="284976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3720" y="6564240"/>
            <a:ext cx="332604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71800" y="6564240"/>
            <a:ext cx="178596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49A17-A7BD-4904-AE6E-C3ED858DDA9C}" type="slidenum">
              <a:rPr b="0" lang="en-US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2971800" y="3730320"/>
            <a:ext cx="5376960" cy="25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You can print this template to use it as a wall calendar, or you can copy the page for any month to add it to your own presentation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If you’d like to change the appearance of the calendar, you can apply a new design template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2973240" y="2130120"/>
            <a:ext cx="5484960" cy="15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2005-2006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School Year Calendar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06280" y="455400"/>
            <a:ext cx="7242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March 2006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139760" y="1876320"/>
          <a:ext cx="7139160" cy="4375080"/>
        </p:xfrm>
        <a:graphic>
          <a:graphicData uri="http://schemas.openxmlformats.org/drawingml/2006/table">
            <a:tbl>
              <a:tblPr/>
              <a:tblGrid>
                <a:gridCol w="1041480"/>
                <a:gridCol w="998640"/>
                <a:gridCol w="1019160"/>
                <a:gridCol w="1020600"/>
                <a:gridCol w="1019160"/>
                <a:gridCol w="1022400"/>
                <a:gridCol w="10177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un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on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ues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Wednes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hurs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ri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atur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</a:tr>
              <a:tr h="78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  <a:tr h="78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  <a:tr h="78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  <a:tr h="78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06280" y="455400"/>
            <a:ext cx="7242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April 2006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139760" y="1876320"/>
          <a:ext cx="7139160" cy="4375080"/>
        </p:xfrm>
        <a:graphic>
          <a:graphicData uri="http://schemas.openxmlformats.org/drawingml/2006/table">
            <a:tbl>
              <a:tblPr/>
              <a:tblGrid>
                <a:gridCol w="1041480"/>
                <a:gridCol w="998640"/>
                <a:gridCol w="1019160"/>
                <a:gridCol w="1020600"/>
                <a:gridCol w="1019160"/>
                <a:gridCol w="1022400"/>
                <a:gridCol w="10177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un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on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ues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Wednes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hurs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ri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atur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</a:tr>
              <a:tr h="78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  <a:tr h="78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  <a:tr h="78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  <a:tr h="78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06280" y="455400"/>
            <a:ext cx="7242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May 2006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139760" y="1876320"/>
          <a:ext cx="7139160" cy="4375080"/>
        </p:xfrm>
        <a:graphic>
          <a:graphicData uri="http://schemas.openxmlformats.org/drawingml/2006/table">
            <a:tbl>
              <a:tblPr/>
              <a:tblGrid>
                <a:gridCol w="1041480"/>
                <a:gridCol w="998640"/>
                <a:gridCol w="1019160"/>
                <a:gridCol w="1020600"/>
                <a:gridCol w="1019160"/>
                <a:gridCol w="1022400"/>
                <a:gridCol w="10177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un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on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ues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Wednes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hurs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ri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atur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</a:tr>
              <a:tr h="78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  <a:tr h="78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  <a:tr h="78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  <a:tr h="78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06280" y="455400"/>
            <a:ext cx="7242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June 2006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139760" y="1876320"/>
          <a:ext cx="7139160" cy="4375080"/>
        </p:xfrm>
        <a:graphic>
          <a:graphicData uri="http://schemas.openxmlformats.org/drawingml/2006/table">
            <a:tbl>
              <a:tblPr/>
              <a:tblGrid>
                <a:gridCol w="1041480"/>
                <a:gridCol w="998640"/>
                <a:gridCol w="1019160"/>
                <a:gridCol w="1020600"/>
                <a:gridCol w="1019160"/>
                <a:gridCol w="1022400"/>
                <a:gridCol w="10177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un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on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ues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Wednes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hurs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ri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atur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</a:tr>
              <a:tr h="78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  <a:tr h="78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  <a:tr h="78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  <a:tr h="78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06280" y="455400"/>
            <a:ext cx="7242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July 2006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106640" y="1801800"/>
          <a:ext cx="7251120" cy="4533480"/>
        </p:xfrm>
        <a:graphic>
          <a:graphicData uri="http://schemas.openxmlformats.org/drawingml/2006/table">
            <a:tbl>
              <a:tblPr/>
              <a:tblGrid>
                <a:gridCol w="1057680"/>
                <a:gridCol w="1014480"/>
                <a:gridCol w="1035000"/>
                <a:gridCol w="1036800"/>
                <a:gridCol w="1035000"/>
                <a:gridCol w="1038600"/>
                <a:gridCol w="1033560"/>
              </a:tblGrid>
              <a:tr h="28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un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on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ues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Wednes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hurs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ri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atur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</a:tr>
              <a:tr h="84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  <a:tr h="85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  <a:tr h="84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  <a:tr h="85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  <a:tr h="84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06280" y="455400"/>
            <a:ext cx="7242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July 2005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106640" y="1801800"/>
          <a:ext cx="7251120" cy="4533480"/>
        </p:xfrm>
        <a:graphic>
          <a:graphicData uri="http://schemas.openxmlformats.org/drawingml/2006/table">
            <a:tbl>
              <a:tblPr/>
              <a:tblGrid>
                <a:gridCol w="1057680"/>
                <a:gridCol w="1014480"/>
                <a:gridCol w="1035000"/>
                <a:gridCol w="1036800"/>
                <a:gridCol w="1035000"/>
                <a:gridCol w="1038600"/>
                <a:gridCol w="1033560"/>
              </a:tblGrid>
              <a:tr h="28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un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on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ues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Wednes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hurs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ri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atur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</a:tr>
              <a:tr h="84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  <a:tr h="85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  <a:tr h="84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  <a:tr h="85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  <a:tr h="84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06280" y="455400"/>
            <a:ext cx="7242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August 2005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139760" y="1876320"/>
          <a:ext cx="7139160" cy="4375080"/>
        </p:xfrm>
        <a:graphic>
          <a:graphicData uri="http://schemas.openxmlformats.org/drawingml/2006/table">
            <a:tbl>
              <a:tblPr/>
              <a:tblGrid>
                <a:gridCol w="1041480"/>
                <a:gridCol w="998640"/>
                <a:gridCol w="1019160"/>
                <a:gridCol w="1020600"/>
                <a:gridCol w="1019160"/>
                <a:gridCol w="1022400"/>
                <a:gridCol w="10177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un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on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ues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Wednes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hurs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ri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atur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</a:tr>
              <a:tr h="78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  <a:tr h="78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  <a:tr h="78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  <a:tr h="78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06280" y="455400"/>
            <a:ext cx="7242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September 2005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139760" y="1876320"/>
          <a:ext cx="7139160" cy="4375080"/>
        </p:xfrm>
        <a:graphic>
          <a:graphicData uri="http://schemas.openxmlformats.org/drawingml/2006/table">
            <a:tbl>
              <a:tblPr/>
              <a:tblGrid>
                <a:gridCol w="1041480"/>
                <a:gridCol w="998640"/>
                <a:gridCol w="1019160"/>
                <a:gridCol w="1020600"/>
                <a:gridCol w="1019160"/>
                <a:gridCol w="1022400"/>
                <a:gridCol w="10177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un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on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ues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Wednes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hurs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ri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atur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</a:tr>
              <a:tr h="78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  <a:tr h="78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  <a:tr h="78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  <a:tr h="78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06280" y="455400"/>
            <a:ext cx="7242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October 2005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139760" y="1876320"/>
          <a:ext cx="7139160" cy="4375080"/>
        </p:xfrm>
        <a:graphic>
          <a:graphicData uri="http://schemas.openxmlformats.org/drawingml/2006/table">
            <a:tbl>
              <a:tblPr/>
              <a:tblGrid>
                <a:gridCol w="1041480"/>
                <a:gridCol w="998640"/>
                <a:gridCol w="1019160"/>
                <a:gridCol w="1020600"/>
                <a:gridCol w="1019160"/>
                <a:gridCol w="1022400"/>
                <a:gridCol w="10177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un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on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ues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Wednes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hurs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ri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atur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</a:tr>
              <a:tr h="78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  <a:tr h="78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  <a:tr h="78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  <a:tr h="78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06280" y="455400"/>
            <a:ext cx="7242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November 2005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139760" y="1876320"/>
          <a:ext cx="7139160" cy="4375080"/>
        </p:xfrm>
        <a:graphic>
          <a:graphicData uri="http://schemas.openxmlformats.org/drawingml/2006/table">
            <a:tbl>
              <a:tblPr/>
              <a:tblGrid>
                <a:gridCol w="1041480"/>
                <a:gridCol w="998640"/>
                <a:gridCol w="1019160"/>
                <a:gridCol w="1020600"/>
                <a:gridCol w="1019160"/>
                <a:gridCol w="1022400"/>
                <a:gridCol w="10177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un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on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ues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Wednes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hurs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ri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atur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</a:tr>
              <a:tr h="78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  <a:tr h="78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  <a:tr h="78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  <a:tr h="78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06280" y="455400"/>
            <a:ext cx="7242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December 2005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139760" y="1876320"/>
          <a:ext cx="7139160" cy="4375080"/>
        </p:xfrm>
        <a:graphic>
          <a:graphicData uri="http://schemas.openxmlformats.org/drawingml/2006/table">
            <a:tbl>
              <a:tblPr/>
              <a:tblGrid>
                <a:gridCol w="1041480"/>
                <a:gridCol w="998640"/>
                <a:gridCol w="1019160"/>
                <a:gridCol w="1020600"/>
                <a:gridCol w="1019160"/>
                <a:gridCol w="1022400"/>
                <a:gridCol w="10177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un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on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ues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Wednes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hurs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ri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atur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</a:tr>
              <a:tr h="78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  <a:tr h="78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  <a:tr h="78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  <a:tr h="78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06280" y="455400"/>
            <a:ext cx="7242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January 2006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139760" y="1876320"/>
          <a:ext cx="7139160" cy="4375080"/>
        </p:xfrm>
        <a:graphic>
          <a:graphicData uri="http://schemas.openxmlformats.org/drawingml/2006/table">
            <a:tbl>
              <a:tblPr/>
              <a:tblGrid>
                <a:gridCol w="1041480"/>
                <a:gridCol w="998640"/>
                <a:gridCol w="1019160"/>
                <a:gridCol w="1020600"/>
                <a:gridCol w="1019160"/>
                <a:gridCol w="1022400"/>
                <a:gridCol w="10177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un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on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ues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Wednes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hurs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ri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atur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</a:tr>
              <a:tr h="78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  <a:tr h="78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  <a:tr h="78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  <a:tr h="78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06280" y="455400"/>
            <a:ext cx="7242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February 2006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139760" y="1876320"/>
          <a:ext cx="7139160" cy="4375080"/>
        </p:xfrm>
        <a:graphic>
          <a:graphicData uri="http://schemas.openxmlformats.org/drawingml/2006/table">
            <a:tbl>
              <a:tblPr/>
              <a:tblGrid>
                <a:gridCol w="1041480"/>
                <a:gridCol w="998640"/>
                <a:gridCol w="1019160"/>
                <a:gridCol w="1020600"/>
                <a:gridCol w="1019160"/>
                <a:gridCol w="1022400"/>
                <a:gridCol w="10177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un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on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ues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Wednes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hurs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ri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atur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bd771">
                        <a:alpha val="90000"/>
                      </a:srgbClr>
                    </a:solidFill>
                  </a:tcPr>
                </a:tc>
              </a:tr>
              <a:tr h="78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  <a:tr h="78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  <a:tr h="78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  <a:tr h="78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ff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74263"/>
                      </a:solidFill>
                    </a:lnL>
                    <a:lnR w="2880">
                      <a:solidFill>
                        <a:srgbClr val="574263"/>
                      </a:solidFill>
                    </a:lnR>
                    <a:lnT w="2880">
                      <a:solidFill>
                        <a:srgbClr val="574263"/>
                      </a:solidFill>
                    </a:lnT>
                    <a:lnB w="2880">
                      <a:solidFill>
                        <a:srgbClr val="574263"/>
                      </a:solidFill>
                    </a:lnB>
                    <a:solidFill>
                      <a:srgbClr val="fff5c9">
                        <a:alpha val="9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6T09:46:13Z</dcterms:created>
  <dc:creator>Arianna</dc:creator>
  <dc:description/>
  <cp:keywords/>
  <dc:language>en-US</dc:language>
  <cp:lastModifiedBy>Arianna</cp:lastModifiedBy>
  <dcterms:modified xsi:type="dcterms:W3CDTF">2005-11-16T09:46:28Z</dcterms:modified>
  <cp:revision>1</cp:revision>
  <dc:subject/>
  <dc:title>2005-2006  School Year Calenda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659461033</vt:lpwstr>
  </property>
</Properties>
</file>