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31FE-8220-4386-93E6-DF5A1474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B5B-BFAF-47E2-B1BF-7CA4AF6C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F43-FDE7-4CC8-8B48-0E8A72CE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206-7941-4ECD-88E1-96752788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3A75-600C-4B41-9F13-569A5967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68D1-FAA6-45F9-B6E7-0E980529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2ADD-8825-4ED7-A0D3-1F1989AA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13B7-A6C8-49CC-BDC7-41D98AAE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2A4A-908E-4C98-AF80-5FB7FB39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30E4-2C97-4D46-9175-D91D129A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BF6B-4F53-4824-89D9-5033C92A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B4A2-39E4-46A0-A250-FDCB0810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72CE-1B54-45C3-B71A-80F90C1C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4BA0-903B-4DD4-BC88-5F9DE2EE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9CF0-03D1-4480-BD8E-87B048EA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F27F-6CD5-4DD8-9D21-3C37EE8A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BAC3-AEDF-4DC7-97FD-918672BE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016D-4DF7-41F1-8309-24C9CE92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EAFA-33CF-49C6-BBA5-C65C87B6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95A-317E-4481-BBA4-7A42FF18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388-0C6B-4218-A445-9EBFDCAF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32B6-22CC-43B2-AF1C-712CE46A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87A3-25E1-4D55-BC73-984B74F2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276D-E909-4BF9-AB60-F96241A0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DD3D-77BF-4367-9D20-B82A97B3653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867280"/>
            <a:ext cx="1287000" cy="919080"/>
            <a:chOff x="7920" y="5867280"/>
            <a:chExt cx="1287000" cy="919080"/>
          </a:xfrm>
        </p:grpSpPr>
        <p:sp>
          <p:nvSpPr>
            <p:cNvPr id="9" name=""/>
            <p:cNvSpPr/>
            <p:nvPr/>
          </p:nvSpPr>
          <p:spPr>
            <a:xfrm>
              <a:off x="29520" y="5884560"/>
              <a:ext cx="1247040" cy="7599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72520" y="5974920"/>
              <a:ext cx="81000" cy="150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4840" y="6199560"/>
              <a:ext cx="907200" cy="479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49760" y="6239520"/>
              <a:ext cx="601200" cy="437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57640" y="5916240"/>
              <a:ext cx="154440" cy="1414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6200" y="6655320"/>
              <a:ext cx="86760" cy="1310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79240" y="6004080"/>
              <a:ext cx="220680" cy="4485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67160" y="5984280"/>
              <a:ext cx="416520" cy="20340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99240" y="6104880"/>
              <a:ext cx="178560" cy="7848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867280"/>
              <a:ext cx="1287000" cy="913320"/>
              <a:chOff x="7920" y="5867280"/>
              <a:chExt cx="1287000" cy="91332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573480" y="5951160"/>
                <a:ext cx="627480" cy="829440"/>
                <a:chOff x="573480" y="5951160"/>
                <a:chExt cx="627480" cy="82944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573480" y="5980320"/>
                  <a:ext cx="179640" cy="10152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0440" y="6624720"/>
                  <a:ext cx="131400" cy="15588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151640" y="5951160"/>
                  <a:ext cx="49320" cy="13680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88920" y="6150600"/>
                <a:ext cx="681480" cy="2926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99880" y="6330960"/>
                <a:ext cx="279360" cy="1731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649080" y="6089760"/>
                <a:ext cx="122400" cy="278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867280"/>
                <a:ext cx="1287000" cy="794160"/>
                <a:chOff x="7920" y="5867280"/>
                <a:chExt cx="1287000" cy="79416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768240" y="6520680"/>
                  <a:ext cx="85680" cy="1015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6145920"/>
                  <a:ext cx="964080" cy="5155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3480" y="6195240"/>
                  <a:ext cx="91440" cy="19548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16240" y="5867280"/>
                  <a:ext cx="368640" cy="69552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664200" y="6054480"/>
                  <a:ext cx="109800" cy="29520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377640" y="6031080"/>
                  <a:ext cx="223200" cy="1580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755640" y="5923440"/>
                  <a:ext cx="539280" cy="2480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823320" y="6003000"/>
                  <a:ext cx="280440" cy="100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D51B-4B5A-47B5-B166-D666D7E2A72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361960"/>
            <a:ext cx="670572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ass Rules for Mr. Barr’s 3</a:t>
            </a:r>
            <a:r>
              <a:rPr b="0" lang="en-US" sz="4000" spc="-1" strike="noStrike" baseline="30000">
                <a:solidFill>
                  <a:srgbClr val="ff0000"/>
                </a:solidFill>
                <a:latin typeface="Comic Sans MS"/>
              </a:rPr>
              <a:t>rd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Grade Clas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re the rules we will follow this year to learn, play, and have fun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room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724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pect and be kind to oth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ten carefully to directions, and obey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touch oth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 quietly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 and play safel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ise your hand before you ask a ques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ten quietly while others are speak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bring toys or gum to cla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boy"/>
          <p:cNvPicPr/>
          <p:nvPr/>
        </p:nvPicPr>
        <p:blipFill>
          <a:blip r:embed="rId1"/>
          <a:stretch/>
        </p:blipFill>
        <p:spPr>
          <a:xfrm>
            <a:off x="5410080" y="2286000"/>
            <a:ext cx="2778120" cy="280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683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4800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ey all our school rul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pect our school’s proper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 quiet in lines, hallways, and restroom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lk only, no runn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y in line, and stay on the right side of the hal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ways have a hall pa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boy and teacher"/>
          <p:cNvPicPr/>
          <p:nvPr/>
        </p:nvPicPr>
        <p:blipFill>
          <a:blip r:embed="rId1"/>
          <a:stretch/>
        </p:blipFill>
        <p:spPr>
          <a:xfrm>
            <a:off x="5334120" y="2286000"/>
            <a:ext cx="2787480" cy="3325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unchtime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800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nd in line and wait your turn to be served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n’t play with or throw your f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n your table before you leav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lk only, no runn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n’t take food out of the cafeteri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lunchbox"/>
          <p:cNvPicPr/>
          <p:nvPr/>
        </p:nvPicPr>
        <p:blipFill>
          <a:blip r:embed="rId1"/>
          <a:stretch/>
        </p:blipFill>
        <p:spPr>
          <a:xfrm>
            <a:off x="5486400" y="2286000"/>
            <a:ext cx="2787480" cy="271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Promi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876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will get along with each other and with our teacher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will be friendly to everyon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will be kind to each other: No putdowns, making fun of, or singling out anyon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will take turns and shar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will respect others’ proper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students"/>
          <p:cNvPicPr/>
          <p:nvPr/>
        </p:nvPicPr>
        <p:blipFill>
          <a:blip r:embed="rId1"/>
          <a:stretch/>
        </p:blipFill>
        <p:spPr>
          <a:xfrm>
            <a:off x="5680080" y="3065400"/>
            <a:ext cx="2778120" cy="1830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8880" y="153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Agre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have read the class rules and agree to follow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ent Name and Signa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09:32:26Z</dcterms:created>
  <dc:creator>Arianna</dc:creator>
  <dc:description/>
  <cp:keywords/>
  <dc:language>en-US</dc:language>
  <cp:lastModifiedBy>Arianna</cp:lastModifiedBy>
  <dcterms:modified xsi:type="dcterms:W3CDTF">2005-11-16T09:32:39Z</dcterms:modified>
  <cp:revision>1</cp:revision>
  <dc:subject/>
  <dc:title>Class Rules for Mr. Barr’s 3rd Grade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3649261033</vt:lpwstr>
  </property>
</Properties>
</file>