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3B9-E268-41D1-8EED-8A45B857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A3B-12F9-4608-8877-6643015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1F1-B6F5-4DE5-B72A-78914862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F3E-A520-4F0C-A14D-CD42E722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BDA-3128-4E89-8166-ED7B0EC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DE5-995A-475A-B6B8-DE2818C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B46-1614-47F6-B210-A90700A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2D9-DBCA-4E1A-B5B1-A33A34E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516-40CE-4324-B83E-7A375D6D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D02-0F88-4395-8302-4DEE14B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8B0-0037-4652-AD9D-4D1318D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C4D-A77D-4247-A82C-B7CAD81D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C30C-C8E1-4EEB-BEEF-EF59A703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139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 Gothic"/>
              </a:rPr>
              <a:t>Multiplica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95280" y="1066680"/>
          <a:ext cx="6845400" cy="5105520"/>
        </p:xfrm>
        <a:graphic>
          <a:graphicData uri="http://schemas.openxmlformats.org/drawingml/2006/table">
            <a:tbl>
              <a:tblPr/>
              <a:tblGrid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</a:tblGrid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21:29Z</dcterms:created>
  <dc:creator>Arianna</dc:creator>
  <dc:description/>
  <cp:keywords/>
  <dc:language>en-US</dc:language>
  <cp:lastModifiedBy>Arianna</cp:lastModifiedBy>
  <dcterms:modified xsi:type="dcterms:W3CDTF">2005-11-16T09:21:47Z</dcterms:modified>
  <cp:revision>1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