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FCFD-1E91-4A5A-8512-C95431861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77F9-4B51-4233-8A6B-EABDB9564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BCA7-9A01-4979-9403-4B9A1E465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7C65-D317-469E-B83A-DFCBD0DCB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0D5F8-50A8-4D94-8258-37C2D0EE6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8D8C8-95BD-4A26-A90A-4C46FB70E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6E561-A9EF-4BFD-90AB-D4855841C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377DC-5AAB-4F00-9FC5-689B495F8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7B574-4130-4775-98FB-FEFBE799B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4FF4C-EB88-467A-BD49-F77F02D48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670A2-31EA-4D25-945C-C984516E0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F7E7-25F7-4773-81EC-7F7932729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4B549-1A55-4A1B-974B-82238E28C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A9CA5-BA35-422A-93A7-645FD63DE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80C1D-0D62-406F-B10E-7F1DC6572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15B56-709A-40E2-9A83-C3E20A0A9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15FE5-3756-402C-AE0D-03B4B07E1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64E6-95CD-4A24-8A53-B2F440049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59AE-E385-4E3F-A257-6ECE9EE8A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6C92-747B-4EBC-B2F3-ACAC6C9E2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18E0-D625-4806-BF32-4C98B82B2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DE97-1707-45A4-8A1E-7589B4F10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D5E9-2000-4DA2-8773-F0D2DE8BE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B1A5-A1AD-4272-93D7-6C8192DD2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6320" y="152280"/>
            <a:ext cx="8991360" cy="6629400"/>
            <a:chOff x="76320" y="152280"/>
            <a:chExt cx="8991360" cy="6629400"/>
          </a:xfrm>
        </p:grpSpPr>
        <p:sp>
          <p:nvSpPr>
            <p:cNvPr id="1" name=""/>
            <p:cNvSpPr/>
            <p:nvPr/>
          </p:nvSpPr>
          <p:spPr>
            <a:xfrm>
              <a:off x="76320" y="152280"/>
              <a:ext cx="8991360" cy="66294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228600"/>
              <a:ext cx="8839440" cy="6477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A5102-22D8-49FA-A036-C11DE9F19FD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2819520" y="1447920"/>
            <a:ext cx="3657600" cy="365760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17444" y="-26827"/>
                </a:moveTo>
                <a:arcTo wR="32000" hR="32000" stAng="-3418008" swAng="6836015"/>
                <a:moveTo>
                  <a:pt x="17444" y="26827"/>
                </a:moveTo>
                <a:arcTo wR="32000" hR="32000" stAng="3418008" swAng="59"/>
                <a:lnTo>
                  <a:pt x="17444" y="26828"/>
                </a:lnTo>
                <a:lnTo>
                  <a:pt x="17444" y="-26828"/>
                </a:lnTo>
                <a:lnTo>
                  <a:pt x="17444" y="-26828"/>
                </a:lnTo>
                <a:arcTo wR="32000" hR="32000" stAng="-3418066" swAng="59"/>
                <a:close/>
              </a:path>
            </a:pathLst>
          </a:custGeom>
          <a:solidFill>
            <a:srgbClr val="ffcc00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-3352680" y="0"/>
            <a:ext cx="4038480" cy="403848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21057" y="-24096"/>
                </a:moveTo>
                <a:arcTo wR="32000" hR="32000" stAng="-2931006" swAng="5862012"/>
                <a:moveTo>
                  <a:pt x="21057" y="24096"/>
                </a:moveTo>
                <a:arcTo wR="32000" hR="32000" stAng="2931006" swAng="71"/>
                <a:lnTo>
                  <a:pt x="21057" y="24097"/>
                </a:lnTo>
                <a:lnTo>
                  <a:pt x="21057" y="-24097"/>
                </a:lnTo>
                <a:lnTo>
                  <a:pt x="21057" y="-24096"/>
                </a:lnTo>
                <a:arcTo wR="32000" hR="32000" stAng="-2931077" swAng="71"/>
                <a:close/>
              </a:path>
            </a:pathLst>
          </a:custGeom>
          <a:solidFill>
            <a:srgbClr val="ff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76320" y="152280"/>
            <a:ext cx="8991360" cy="6629400"/>
            <a:chOff x="76320" y="152280"/>
            <a:chExt cx="8991360" cy="6629400"/>
          </a:xfrm>
        </p:grpSpPr>
        <p:sp>
          <p:nvSpPr>
            <p:cNvPr id="12" name=""/>
            <p:cNvSpPr/>
            <p:nvPr/>
          </p:nvSpPr>
          <p:spPr>
            <a:xfrm>
              <a:off x="76320" y="152280"/>
              <a:ext cx="8991360" cy="66294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52280" y="228600"/>
              <a:ext cx="8839440" cy="6477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" name="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-2819520" y="1447920"/>
            <a:ext cx="3657600" cy="365760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17444" y="-26827"/>
                </a:moveTo>
                <a:arcTo wR="32000" hR="32000" stAng="-3418008" swAng="6836015"/>
                <a:moveTo>
                  <a:pt x="17444" y="26827"/>
                </a:moveTo>
                <a:arcTo wR="32000" hR="32000" stAng="3418008" swAng="59"/>
                <a:lnTo>
                  <a:pt x="17444" y="26828"/>
                </a:lnTo>
                <a:lnTo>
                  <a:pt x="17444" y="-26828"/>
                </a:lnTo>
                <a:lnTo>
                  <a:pt x="17444" y="-26828"/>
                </a:lnTo>
                <a:arcTo wR="32000" hR="32000" stAng="-3418066" swAng="59"/>
                <a:close/>
              </a:path>
            </a:pathLst>
          </a:custGeom>
          <a:solidFill>
            <a:srgbClr val="ffcc00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-3352680" y="0"/>
            <a:ext cx="4038480" cy="403848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21057" y="-24096"/>
                </a:moveTo>
                <a:arcTo wR="32000" hR="32000" stAng="-2931006" swAng="5862012"/>
                <a:moveTo>
                  <a:pt x="21057" y="24096"/>
                </a:moveTo>
                <a:arcTo wR="32000" hR="32000" stAng="2931006" swAng="71"/>
                <a:lnTo>
                  <a:pt x="21057" y="24097"/>
                </a:lnTo>
                <a:lnTo>
                  <a:pt x="21057" y="-24097"/>
                </a:lnTo>
                <a:lnTo>
                  <a:pt x="21057" y="-24096"/>
                </a:lnTo>
                <a:arcTo wR="32000" hR="32000" stAng="-2931077" swAng="71"/>
                <a:close/>
              </a:path>
            </a:pathLst>
          </a:custGeom>
          <a:solidFill>
            <a:srgbClr val="ff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380880"/>
            <a:ext cx="8534160" cy="59436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457200"/>
            <a:ext cx="8382240" cy="57913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47920" y="2514600"/>
            <a:ext cx="693396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2666880" y="1981080"/>
            <a:ext cx="3657600" cy="365760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14556" y="-28498"/>
                </a:moveTo>
                <a:arcTo wR="32000" hR="32000" stAng="-3776586" swAng="7553173"/>
                <a:moveTo>
                  <a:pt x="14556" y="28498"/>
                </a:moveTo>
                <a:arcTo wR="32000" hR="32000" stAng="3776586" swAng="49"/>
                <a:lnTo>
                  <a:pt x="14556" y="28499"/>
                </a:lnTo>
                <a:lnTo>
                  <a:pt x="14556" y="-28499"/>
                </a:lnTo>
                <a:lnTo>
                  <a:pt x="14556" y="-28498"/>
                </a:lnTo>
                <a:arcTo wR="32000" hR="32000" stAng="-3776635" swAng="49"/>
                <a:close/>
              </a:path>
            </a:pathLst>
          </a:custGeom>
          <a:solidFill>
            <a:srgbClr val="ffcc00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3352680" y="533520"/>
            <a:ext cx="4038480" cy="403848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21057" y="-24096"/>
                </a:moveTo>
                <a:arcTo wR="32000" hR="32000" stAng="-2931006" swAng="5862012"/>
                <a:moveTo>
                  <a:pt x="21057" y="24096"/>
                </a:moveTo>
                <a:arcTo wR="32000" hR="32000" stAng="2931006" swAng="71"/>
                <a:lnTo>
                  <a:pt x="21057" y="24097"/>
                </a:lnTo>
                <a:lnTo>
                  <a:pt x="21057" y="-24097"/>
                </a:lnTo>
                <a:lnTo>
                  <a:pt x="21057" y="-24096"/>
                </a:lnTo>
                <a:arcTo wR="32000" hR="32000" stAng="-2931077" swAng="71"/>
                <a:close/>
              </a:path>
            </a:pathLst>
          </a:custGeom>
          <a:solidFill>
            <a:srgbClr val="ff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01532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27332-2010-44A8-86E9-07C47A1B59E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380880"/>
            <a:ext cx="8534160" cy="59436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457200"/>
            <a:ext cx="8382240" cy="57913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47920" y="2514600"/>
            <a:ext cx="693396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-2666880" y="1981080"/>
            <a:ext cx="3657600" cy="365760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14556" y="-28498"/>
                </a:moveTo>
                <a:arcTo wR="32000" hR="32000" stAng="-3776586" swAng="7553173"/>
                <a:moveTo>
                  <a:pt x="14556" y="28498"/>
                </a:moveTo>
                <a:arcTo wR="32000" hR="32000" stAng="3776586" swAng="49"/>
                <a:lnTo>
                  <a:pt x="14556" y="28499"/>
                </a:lnTo>
                <a:lnTo>
                  <a:pt x="14556" y="-28499"/>
                </a:lnTo>
                <a:lnTo>
                  <a:pt x="14556" y="-28498"/>
                </a:lnTo>
                <a:arcTo wR="32000" hR="32000" stAng="-3776635" swAng="49"/>
                <a:close/>
              </a:path>
            </a:pathLst>
          </a:custGeom>
          <a:solidFill>
            <a:srgbClr val="ffcc00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-3352680" y="533520"/>
            <a:ext cx="4038480" cy="403848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21057" y="-24096"/>
                </a:moveTo>
                <a:arcTo wR="32000" hR="32000" stAng="-2931006" swAng="5862012"/>
                <a:moveTo>
                  <a:pt x="21057" y="24096"/>
                </a:moveTo>
                <a:arcTo wR="32000" hR="32000" stAng="2931006" swAng="71"/>
                <a:lnTo>
                  <a:pt x="21057" y="24097"/>
                </a:lnTo>
                <a:lnTo>
                  <a:pt x="21057" y="-24097"/>
                </a:lnTo>
                <a:lnTo>
                  <a:pt x="21057" y="-24096"/>
                </a:lnTo>
                <a:arcTo wR="32000" hR="32000" stAng="-2931077" swAng="71"/>
                <a:close/>
              </a:path>
            </a:pathLst>
          </a:custGeom>
          <a:solidFill>
            <a:srgbClr val="ff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77777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777777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77777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777777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77777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777777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77777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777777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77777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777777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77777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777777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01532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Georgia"/>
              </a:rPr>
              <a:t>OPEN HOUSE</a:t>
            </a:r>
            <a:endParaRPr b="0" lang="en-US" sz="40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442520" y="2895120"/>
            <a:ext cx="72392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Verdana"/>
              </a:rPr>
              <a:t>School Name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Verdana"/>
              </a:rPr>
              <a:t>Date 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Georgia"/>
              </a:rPr>
              <a:t>Handouts</a:t>
            </a: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7777"/>
                </a:solidFill>
                <a:latin typeface="Verdana"/>
              </a:rPr>
              <a:t>Translate handouts for parents for whom English is a second language.</a:t>
            </a:r>
            <a:endParaRPr b="0" lang="en-US" sz="28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7777"/>
                </a:solidFill>
                <a:latin typeface="Verdana"/>
              </a:rPr>
              <a:t>Handouts might include:</a:t>
            </a:r>
            <a:endParaRPr b="0" lang="en-US" sz="2800" spc="-1" strike="noStrike">
              <a:solidFill>
                <a:srgbClr val="777777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Verdana"/>
              </a:rPr>
              <a:t>A list of school phone numbers, e-mail addresses, and Web site addresses.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Verdana"/>
              </a:rPr>
              <a:t>Copies of classroom and school policies.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Verdana"/>
              </a:rPr>
              <a:t>A list of materials that children will need for class. 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Georgia"/>
              </a:rPr>
              <a:t>Welcome Parents!</a:t>
            </a: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7777"/>
                </a:solidFill>
                <a:latin typeface="Verdana"/>
              </a:rPr>
              <a:t>Welcome parents to your classroom.</a:t>
            </a:r>
            <a:endParaRPr b="0" lang="en-US" sz="28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7777"/>
                </a:solidFill>
                <a:latin typeface="Verdana"/>
              </a:rPr>
              <a:t>List the goals for the open house:</a:t>
            </a:r>
            <a:endParaRPr b="0" lang="en-US" sz="2800" spc="-1" strike="noStrike">
              <a:solidFill>
                <a:srgbClr val="777777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Verdana"/>
              </a:rPr>
              <a:t>To help parents understand the work their child will be doing throughout the school year.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Verdana"/>
              </a:rPr>
              <a:t>To explain your expectations of their child.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Verdana"/>
              </a:rPr>
              <a:t>To share information about how parents can support their child’s learning.</a:t>
            </a:r>
            <a:r>
              <a:rPr b="0" lang="en-US" sz="2800" spc="-1" strike="noStrike">
                <a:solidFill>
                  <a:srgbClr val="777777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777777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Georgia"/>
              </a:rPr>
              <a:t>Curriculum Goals</a:t>
            </a: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Verdana"/>
              </a:rPr>
              <a:t>Describe what the students will study during the school year, including the overall curriculum plans and goals.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Verdana"/>
              </a:rPr>
              <a:t>Include a detailed, colorful syllabus for parents to take home. 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Verdana"/>
              </a:rPr>
              <a:t>Suggest ways that parents can help their child learn, such as reading together for 20 minutes a day.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Verdana"/>
              </a:rPr>
              <a:t>Use more than one slide to cover this information. 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Georgia"/>
              </a:rPr>
              <a:t>In-Class Activity</a:t>
            </a: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240" y="1827360"/>
            <a:ext cx="7311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Verdana"/>
              </a:rPr>
              <a:t>Invite parents to take part in an activity, and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Verdana"/>
              </a:rPr>
              <a:t>then discuss it. Some ideas include: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Verdana"/>
              </a:rPr>
              <a:t>Solving a math problem, such as estimating the number of beans in a jar.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Verdana"/>
              </a:rPr>
              <a:t>Writing an encouraging letter to their child. 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Verdana"/>
              </a:rPr>
              <a:t>Going on a classroom scavenger hunt for their child's work, the books their child likes best, and messages from their child. 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Georgia"/>
              </a:rPr>
              <a:t>Class Information</a:t>
            </a: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Verdana"/>
              </a:rPr>
              <a:t>Explain how students will be evaluated and graded.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Verdana"/>
              </a:rPr>
              <a:t>Tell parents when report cards and progress reports will be sent home.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Verdana"/>
              </a:rPr>
              <a:t>Describe the amount of homework students can expect.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Verdana"/>
              </a:rPr>
              <a:t>Provide a calendar of upcoming events, such as class field trips and parent-teacher conferences. 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Georgia"/>
              </a:rPr>
              <a:t>Class Rules</a:t>
            </a: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182320" y="1964880"/>
            <a:ext cx="6502680" cy="376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24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77777"/>
                </a:solidFill>
                <a:latin typeface="Verdana"/>
              </a:rPr>
              <a:t>Explain the behavior you expect in your classroom. </a:t>
            </a:r>
            <a:endParaRPr b="0" lang="en-US" sz="2500" spc="-1" strike="noStrike">
              <a:solidFill>
                <a:srgbClr val="777777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624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77777"/>
                </a:solidFill>
                <a:latin typeface="Verdana"/>
              </a:rPr>
              <a:t>Your class rules might include:</a:t>
            </a:r>
            <a:endParaRPr b="0" lang="en-US" sz="2500" spc="-1" strike="noStrike">
              <a:solidFill>
                <a:srgbClr val="777777"/>
              </a:solidFill>
              <a:latin typeface="Verdana"/>
            </a:endParaRPr>
          </a:p>
          <a:p>
            <a:pPr lvl="1" marL="798480" indent="-342720">
              <a:lnSpc>
                <a:spcPct val="90000"/>
              </a:lnSpc>
              <a:spcBef>
                <a:spcPts val="5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777777"/>
                </a:solidFill>
                <a:latin typeface="Verdana"/>
              </a:rPr>
              <a:t>Be respectful.</a:t>
            </a:r>
            <a:endParaRPr b="0" lang="en-US" sz="2100" spc="-1" strike="noStrike">
              <a:solidFill>
                <a:srgbClr val="777777"/>
              </a:solidFill>
              <a:latin typeface="Verdana"/>
            </a:endParaRPr>
          </a:p>
          <a:p>
            <a:pPr lvl="1" marL="798480" indent="-342720">
              <a:lnSpc>
                <a:spcPct val="90000"/>
              </a:lnSpc>
              <a:spcBef>
                <a:spcPts val="5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777777"/>
                </a:solidFill>
                <a:latin typeface="Verdana"/>
              </a:rPr>
              <a:t>Be responsible.</a:t>
            </a:r>
            <a:endParaRPr b="0" lang="en-US" sz="2100" spc="-1" strike="noStrike">
              <a:solidFill>
                <a:srgbClr val="777777"/>
              </a:solidFill>
              <a:latin typeface="Verdana"/>
            </a:endParaRPr>
          </a:p>
          <a:p>
            <a:pPr lvl="1" marL="798480" indent="-342720">
              <a:lnSpc>
                <a:spcPct val="90000"/>
              </a:lnSpc>
              <a:spcBef>
                <a:spcPts val="5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777777"/>
                </a:solidFill>
                <a:latin typeface="Verdana"/>
              </a:rPr>
              <a:t>Follow directions.</a:t>
            </a:r>
            <a:endParaRPr b="0" lang="en-US" sz="2100" spc="-1" strike="noStrike">
              <a:solidFill>
                <a:srgbClr val="777777"/>
              </a:solidFill>
              <a:latin typeface="Verdana"/>
            </a:endParaRPr>
          </a:p>
          <a:p>
            <a:pPr lvl="1" marL="798480" indent="-342720">
              <a:lnSpc>
                <a:spcPct val="90000"/>
              </a:lnSpc>
              <a:spcBef>
                <a:spcPts val="5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777777"/>
                </a:solidFill>
                <a:latin typeface="Verdana"/>
              </a:rPr>
              <a:t>Be punctual.</a:t>
            </a:r>
            <a:endParaRPr b="0" lang="en-US" sz="2100" spc="-1" strike="noStrike">
              <a:solidFill>
                <a:srgbClr val="777777"/>
              </a:solidFill>
              <a:latin typeface="Verdana"/>
            </a:endParaRPr>
          </a:p>
          <a:p>
            <a:pPr lvl="1" marL="798480" indent="-342720">
              <a:lnSpc>
                <a:spcPct val="90000"/>
              </a:lnSpc>
              <a:spcBef>
                <a:spcPts val="5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777777"/>
                </a:solidFill>
                <a:latin typeface="Verdana"/>
              </a:rPr>
              <a:t>Be organized.</a:t>
            </a:r>
            <a:endParaRPr b="0" lang="en-US" sz="2100" spc="-1" strike="noStrike">
              <a:solidFill>
                <a:srgbClr val="777777"/>
              </a:solidFill>
              <a:latin typeface="Verdana"/>
            </a:endParaRPr>
          </a:p>
          <a:p>
            <a:pPr lvl="1" marL="798480" indent="-342720">
              <a:lnSpc>
                <a:spcPct val="90000"/>
              </a:lnSpc>
              <a:spcBef>
                <a:spcPts val="5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777777"/>
                </a:solidFill>
                <a:latin typeface="Verdana"/>
              </a:rPr>
              <a:t>Be a self-starter.</a:t>
            </a:r>
            <a:endParaRPr b="0" lang="en-US" sz="2100" spc="-1" strike="noStrike">
              <a:solidFill>
                <a:srgbClr val="777777"/>
              </a:solidFill>
              <a:latin typeface="Verdana"/>
            </a:endParaRPr>
          </a:p>
          <a:p>
            <a:pPr lvl="1" marL="798480" indent="-342720">
              <a:lnSpc>
                <a:spcPct val="90000"/>
              </a:lnSpc>
              <a:spcBef>
                <a:spcPts val="5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777777"/>
                </a:solidFill>
                <a:latin typeface="Verdana"/>
              </a:rPr>
              <a:t>Be prepared.</a:t>
            </a:r>
            <a:endParaRPr b="0" lang="en-US" sz="2100" spc="-1" strike="noStrike">
              <a:solidFill>
                <a:srgbClr val="77777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Georgia"/>
              </a:rPr>
              <a:t>School Policies</a:t>
            </a: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Verdana"/>
              </a:rPr>
              <a:t>Explain how the school addresses academic and behavioral problems.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Verdana"/>
              </a:rPr>
              <a:t>Outline the school's policies regarding tardiness, absence, and discipline. 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Verdana"/>
              </a:rPr>
              <a:t>Provide policy information about: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Verdana"/>
              </a:rPr>
              <a:t>School cancellations for bad weather and other reasons. </a:t>
            </a:r>
            <a:endParaRPr b="0" lang="en-US" sz="2000" spc="-1" strike="noStrike">
              <a:solidFill>
                <a:srgbClr val="777777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Verdana"/>
              </a:rPr>
              <a:t>Emergency procedures.</a:t>
            </a:r>
            <a:endParaRPr b="0" lang="en-US" sz="2000" spc="-1" strike="noStrike">
              <a:solidFill>
                <a:srgbClr val="777777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Verdana"/>
              </a:rPr>
              <a:t>Transportation. </a:t>
            </a:r>
            <a:endParaRPr b="0" lang="en-US" sz="2000" spc="-1" strike="noStrike">
              <a:solidFill>
                <a:srgbClr val="777777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Verdana"/>
              </a:rPr>
              <a:t>After-school activities.</a:t>
            </a:r>
            <a:endParaRPr b="0" lang="en-US" sz="2000" spc="-1" strike="noStrike">
              <a:solidFill>
                <a:srgbClr val="777777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Verdana"/>
              </a:rPr>
              <a:t>Volunteering. </a:t>
            </a:r>
            <a:endParaRPr b="0" lang="en-US" sz="2000" spc="-1" strike="noStrike">
              <a:solidFill>
                <a:srgbClr val="77777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Georgia"/>
              </a:rPr>
              <a:t>Get Involved!</a:t>
            </a: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Verdana"/>
              </a:rPr>
              <a:t>List opportunities for parents to become involved in volunteer programs, advisory councils, and the PTA.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Verdana"/>
              </a:rPr>
              <a:t>Provide sign-up sheets for parents who are interested in helping to plan parties or special projects for your class. 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Georgia"/>
              </a:rPr>
              <a:t>Questions?</a:t>
            </a:r>
            <a:endParaRPr b="0" lang="en-US" sz="36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7777"/>
                </a:solidFill>
                <a:latin typeface="Verdana"/>
              </a:rPr>
              <a:t>Take questions from parents.</a:t>
            </a:r>
            <a:endParaRPr b="0" lang="en-US" sz="28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7777"/>
                </a:solidFill>
                <a:latin typeface="Verdana"/>
              </a:rPr>
              <a:t>Ask parents to fill out a questionnaire about their child.</a:t>
            </a:r>
            <a:r>
              <a:rPr b="0" lang="en-US" sz="2400" spc="-1" strike="noStrike">
                <a:solidFill>
                  <a:srgbClr val="777777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Verdana"/>
              </a:rPr>
              <a:t>Have them describe areas in which they would like to see their child improve.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Verdana"/>
              </a:rPr>
              <a:t>Have them describe their child's personality, interests, and talents.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6T09:31:15Z</dcterms:created>
  <dc:creator>Arianna</dc:creator>
  <dc:description/>
  <cp:keywords/>
  <dc:language>en-US</dc:language>
  <cp:lastModifiedBy>Arianna</cp:lastModifiedBy>
  <dcterms:modified xsi:type="dcterms:W3CDTF">2005-11-16T09:31:25Z</dcterms:modified>
  <cp:revision>1</cp:revision>
  <dc:subject/>
  <dc:title>OPEN HOUS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0701033</vt:lpwstr>
  </property>
</Properties>
</file>